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7196-269D-43A8-95B9-27297C9A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EA8-6C02-433A-A95B-D0874046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A6FD-E1BE-47FD-9841-7B54E795E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503E-D246-4AC8-9A87-DE8F306C8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50C7-AE44-43ED-BF7B-D21B0EE0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CF4F-C2DC-4CF8-9E0C-91D062187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69CF-90AA-47EC-93DA-ECD127F6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E79-6F92-46D8-B6DC-94494F0F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1EEB-2672-4659-969C-C4254D078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9ACB-EFE4-400D-A743-7F393F17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358-EE79-493F-A3ED-34868F1E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A38-9C5C-48A4-8FE5-DBD0E1B6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E65E-C06A-4563-8272-32F38867F310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-5531" t="0" r="0" b="353"/>
          <a:stretch/>
        </p:blipFill>
        <p:spPr>
          <a:xfrm>
            <a:off x="4427640" y="189000"/>
            <a:ext cx="4540320" cy="6308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>
            <a:lum contrast="6000"/>
          </a:blip>
          <a:srcRect l="8888" t="4158" r="15522" b="5687"/>
          <a:stretch/>
        </p:blipFill>
        <p:spPr>
          <a:xfrm>
            <a:off x="1187280" y="333360"/>
            <a:ext cx="3384720" cy="2695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258920" y="3213000"/>
            <a:ext cx="3457440" cy="330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4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4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4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4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14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>
            <a:lum bright="6000"/>
          </a:blip>
          <a:srcRect l="13854" t="28306" r="2953" b="5665"/>
          <a:stretch/>
        </p:blipFill>
        <p:spPr>
          <a:xfrm>
            <a:off x="1187280" y="333360"/>
            <a:ext cx="3017880" cy="3170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446360" cy="4272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56000" y="3429000"/>
            <a:ext cx="3816360" cy="326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4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4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4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4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14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>
            <a:lum bright="6000"/>
          </a:blip>
          <a:srcRect l="12916" t="27387" r="22518" b="32257"/>
          <a:stretch/>
        </p:blipFill>
        <p:spPr>
          <a:xfrm>
            <a:off x="395280" y="189000"/>
            <a:ext cx="2232000" cy="1971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>
            <a:lum bright="12000"/>
          </a:blip>
          <a:srcRect l="5006" t="19615" r="9528" b="13307"/>
          <a:stretch/>
        </p:blipFill>
        <p:spPr>
          <a:xfrm>
            <a:off x="5435640" y="333360"/>
            <a:ext cx="3465360" cy="424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63640" y="1628640"/>
            <a:ext cx="48373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4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4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4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4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5" dur="1400" fill="hold"/>
                                        <p:tgtEl>
                                          <p:spTgt spid="56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6000"/>
          </a:blip>
          <a:srcRect l="1219" t="5206" r="3004" b="8001"/>
          <a:stretch/>
        </p:blipFill>
        <p:spPr>
          <a:xfrm>
            <a:off x="684360" y="404640"/>
            <a:ext cx="3708360" cy="23767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27640" y="1268280"/>
            <a:ext cx="4614840" cy="5040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042920" y="2852640"/>
            <a:ext cx="395928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4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4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4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4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4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14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6000"/>
          </a:blip>
          <a:srcRect l="0" t="1553" r="2624" b="2057"/>
          <a:stretch/>
        </p:blipFill>
        <p:spPr>
          <a:xfrm>
            <a:off x="2987640" y="4076640"/>
            <a:ext cx="3456000" cy="242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260280"/>
            <a:ext cx="3481200" cy="4797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19280" y="549360"/>
            <a:ext cx="334476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4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4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4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9" dur="1400" fill="hold"/>
                                        <p:tgtEl>
                                          <p:spTgt spid="62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076720" y="189000"/>
            <a:ext cx="3795840" cy="4464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ベット無料イラストカラー"/>
          <p:cNvPicPr/>
          <p:nvPr/>
        </p:nvPicPr>
        <p:blipFill>
          <a:blip r:embed="rId2"/>
          <a:srcRect l="11014" t="20110" r="14557" b="18472"/>
          <a:stretch/>
        </p:blipFill>
        <p:spPr>
          <a:xfrm>
            <a:off x="2050920" y="4362480"/>
            <a:ext cx="4032360" cy="24955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3656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4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4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4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1400" fill="hold"/>
                                        <p:tgtEl>
                                          <p:spTgt spid="65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0:16:54Z</dcterms:created>
  <dc:creator>Hatsumi</dc:creator>
  <dc:description/>
  <dc:language>en-US</dc:language>
  <cp:lastModifiedBy>塚田</cp:lastModifiedBy>
  <dcterms:modified xsi:type="dcterms:W3CDTF">2010-12-07T04:00:57Z</dcterms:modified>
  <cp:revision>33</cp:revision>
  <dc:subject/>
  <dc:title>スライド 1</dc:title>
</cp:coreProperties>
</file>