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991-97D0-486C-914B-D89C96D0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F01-1605-4EF5-AF1B-310DAA56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A38-DA42-4490-BF3F-9FDD75DC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767-A0E7-4E00-932B-1B2F5B3B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1D0-4816-469E-837D-7A5DA135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D84-6DA1-4B7D-AEDF-D27D72E3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26F-FE1B-4434-924A-F30F53D1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7DB-7055-4E3B-904A-FB4B17FE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8C9-32D8-4B19-B53B-FDABE214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C21-6C82-4586-A743-2CB62BD1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F21-9507-441E-B065-A2CD37B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15B-46DB-4621-9C4F-EEB81462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354B-C89C-4FAE-B6EC-43E36804E89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5531" t="0" r="0" b="353"/>
          <a:stretch/>
        </p:blipFill>
        <p:spPr>
          <a:xfrm>
            <a:off x="4427640" y="189000"/>
            <a:ext cx="4540320" cy="630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contrast="6000"/>
          </a:blip>
          <a:srcRect l="8888" t="4158" r="15522" b="5687"/>
          <a:stretch/>
        </p:blipFill>
        <p:spPr>
          <a:xfrm>
            <a:off x="1187280" y="333360"/>
            <a:ext cx="3384720" cy="26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258920" y="3213000"/>
            <a:ext cx="3457440" cy="33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14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6000"/>
          </a:blip>
          <a:srcRect l="13854" t="28306" r="2953" b="5665"/>
          <a:stretch/>
        </p:blipFill>
        <p:spPr>
          <a:xfrm>
            <a:off x="1187280" y="333360"/>
            <a:ext cx="3017880" cy="3170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446360" cy="427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56000" y="3429000"/>
            <a:ext cx="3816360" cy="32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14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6000"/>
          </a:blip>
          <a:srcRect l="12916" t="27387" r="22518" b="32257"/>
          <a:stretch/>
        </p:blipFill>
        <p:spPr>
          <a:xfrm>
            <a:off x="395280" y="189000"/>
            <a:ext cx="223200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bright="12000"/>
          </a:blip>
          <a:srcRect l="5006" t="19615" r="9528" b="13307"/>
          <a:stretch/>
        </p:blipFill>
        <p:spPr>
          <a:xfrm>
            <a:off x="5435640" y="333360"/>
            <a:ext cx="3465360" cy="424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48373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14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6000"/>
          </a:blip>
          <a:srcRect l="1219" t="5206" r="3004" b="8001"/>
          <a:stretch/>
        </p:blipFill>
        <p:spPr>
          <a:xfrm>
            <a:off x="684360" y="404640"/>
            <a:ext cx="3708360" cy="237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614840" cy="504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39592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14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6000"/>
          </a:blip>
          <a:srcRect l="0" t="1553" r="2624" b="2057"/>
          <a:stretch/>
        </p:blipFill>
        <p:spPr>
          <a:xfrm>
            <a:off x="2987640" y="4076640"/>
            <a:ext cx="345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481200" cy="479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19280" y="549360"/>
            <a:ext cx="33447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14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795840" cy="446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ベット無料イラストカラー"/>
          <p:cNvPicPr/>
          <p:nvPr/>
        </p:nvPicPr>
        <p:blipFill>
          <a:blip r:embed="rId2"/>
          <a:srcRect l="11014" t="20110" r="14557" b="18472"/>
          <a:stretch/>
        </p:blipFill>
        <p:spPr>
          <a:xfrm>
            <a:off x="2050920" y="4362480"/>
            <a:ext cx="403236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3656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4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4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14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0:16:54Z</dcterms:created>
  <dc:creator>Hatsumi</dc:creator>
  <dc:description/>
  <dc:language>en-US</dc:language>
  <cp:lastModifiedBy>塚田</cp:lastModifiedBy>
  <dcterms:modified xsi:type="dcterms:W3CDTF">2010-12-07T04:00:57Z</dcterms:modified>
  <cp:revision>33</cp:revision>
  <dc:subject/>
  <dc:title>スライド 1</dc:title>
</cp:coreProperties>
</file>